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10FA-4C6A-4FF0-A489-32C846D05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C86A-0C5C-46EA-9E11-D23302011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B797-6F84-4819-A98C-E6C70A009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8E85-958F-42F8-877F-D540901D0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7A82-77CB-4974-81C5-9B8C46709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8596-C827-4124-9B08-E629FB6FC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E8C0-796A-40B5-A17A-B0BE3DA01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A5B0-7A44-4A82-AA48-E53891FEF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C05B-1735-478B-B4AF-C9D7A5A32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DCDD-BD84-4003-8C72-E6AD041B0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9845-12D6-4722-A584-9A8358043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8232-3F52-4EA3-9774-83BCE8EAC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6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E09A-66A8-4A32-AD56-EADC857C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109000" y="6019920"/>
            <a:ext cx="8827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1447560"/>
            <a:ext cx="6477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251840" y="5257800"/>
            <a:ext cx="1587240" cy="1365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334120"/>
            <a:ext cx="1044360" cy="104436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57200"/>
            <a:ext cx="1044360" cy="104472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676520"/>
            <a:ext cx="1044360" cy="104436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895480"/>
            <a:ext cx="1044360" cy="104472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114800"/>
            <a:ext cx="1044360" cy="104472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23358" r="0" b="19737"/>
          <a:stretch/>
        </p:blipFill>
        <p:spPr>
          <a:xfrm>
            <a:off x="304920" y="3313080"/>
            <a:ext cx="8458200" cy="2670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2416320"/>
            <a:ext cx="6477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velopmen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1887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3880" y="6400800"/>
            <a:ext cx="655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3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208080"/>
            <a:ext cx="914400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59023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28600" y="76320"/>
            <a:ext cx="9372600" cy="66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228600" y="87480"/>
            <a:ext cx="9372600" cy="66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228600" y="85680"/>
            <a:ext cx="93726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52280" y="141120"/>
            <a:ext cx="929628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52280" y="141120"/>
            <a:ext cx="929628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784872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31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4464" r="0" b="48688"/>
          <a:stretch/>
        </p:blipFill>
        <p:spPr>
          <a:xfrm>
            <a:off x="0" y="2590920"/>
            <a:ext cx="7696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2:14:46Z</dcterms:created>
  <dc:creator>TwogoodVA</dc:creator>
  <dc:description/>
  <dc:language>en-US</dc:language>
  <cp:lastModifiedBy>mayzj</cp:lastModifiedBy>
  <dcterms:modified xsi:type="dcterms:W3CDTF">2009-04-13T15:17:49Z</dcterms:modified>
  <cp:revision>74</cp:revision>
  <dc:subject/>
  <dc:title>Becoming an Architect</dc:title>
</cp:coreProperties>
</file>